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6A892-4420-4D73-95CD-8A7894208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340D-F6E7-471D-A82B-97F0C191B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603529-3D2E-444A-BE11-0C92E9215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762261-B195-44AA-AC33-1F1107D2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4F510-E902-4AF3-B31C-E9FDDAC5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539713-8E3F-4932-AC53-B75095AA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3973A3-3B1F-44A8-9868-B3C0ABFF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85062A-D108-43FF-A8D7-82AA5B0C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DCFF1-00C1-4A1C-9408-2CF0B9D6A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540000-A56A-4AF1-8C6A-052A899C8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FD2113-B39F-4BE7-91E0-1C5D0DFD7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CD431-A2CD-4D0C-870F-14BB417BC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2535-AC2D-4F2E-A245-ABDAB41A6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1CC2DD-9C0B-4829-9F36-94F760EE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5E9DB-7E71-49A3-8181-14B95D14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D0F4A1-5069-41B8-9CA0-76B8E3DE6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C75FA2-31E7-4EDA-A602-72D1C5249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7B224F-4F6F-484C-81F7-6D7DCD85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CA647-33AF-4A07-A8FB-4700BF504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9CA9A5-9A1D-40BD-9851-4E5B4D79B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A57018-54E6-422A-83E3-881C2CD9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7BF410-161B-4550-931C-44FD88336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CFDDC-A439-4485-AFDD-1283F11D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E8F4-1573-4BA7-BDC0-757B33DB5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3FF66A-481B-4E78-B1A3-7760A40D4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6F675C-ECE0-4D80-B3E4-D9C2ED000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0B21D-88EC-4D9A-9469-55DEAF186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86B34-E198-48FB-9B52-280409EA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2965A1-6709-4BB5-89C2-AAA22BA0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568C57-91AC-4F64-8311-BC72AD27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07E3DD-D372-4B99-99DA-F8D31DF56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76BCD1-D3DF-4A10-8F29-97EC9A4B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AFF6E8-D969-49E8-9311-4C1556371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886BB5-DE83-4FDC-B4C0-1B3AC25AE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A028D-D076-4A78-9713-4C5B32212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F42551-D022-4588-BB2B-836BA8FA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5CCD5C-A03E-4501-9EEB-BCFC86BB7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3A4FB6-070A-4A87-9454-50256BFF4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0DB2D2-BF44-436E-AF8F-DB9ED81E7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6FC099-FC8A-4DED-8666-6314536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4E2D4E-6DF2-4C04-91FC-11C155CF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BEE65-F57A-4599-A357-E9939D74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D30478-197D-4B4D-B5A4-95BD4505D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AE2FB1-CD65-4F59-93E4-EDDE0FB6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C6F199-C66B-4F7E-943A-0FE55CCBD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B6C3-B0BA-4590-BCB8-28BC0710F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2EBCB7-581D-4B39-A8CF-3BE55479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D2BEFC-CE0D-4159-A868-29C00E52C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B0244B-ACC6-476F-B529-464EC391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34BE8F-F0EC-4426-B44F-3FF860BC7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A330AF-2866-4948-8F13-97147F480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0C216B-2F4E-4070-93B9-A509C6578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1EC2AB-BA53-41E5-AD2F-F48A5A956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CA4C52-CBB5-429F-9355-DCE9A15F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BB7F6F-1C13-4118-8033-044E2291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04019B-1DDD-4FC5-8AC4-3BC3E186F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1274-0E9E-45BF-9FDC-5E11DD93C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C63FEC-0CBB-45CD-9002-EC19B7F2F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CCC177-E4F5-462B-A17E-9E4E601C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2F3ACA-ACCB-47AD-888E-B134E77B0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908BBE-9939-4EC5-8D5C-87D0EAAB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F7431-0822-4851-9B43-C9D268500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58C60D-5051-41CA-92A6-C925EFA5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4786EB-AFFA-4E7B-8F9E-B355D49F4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A913618-0676-4A14-B40E-6A562C613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3BFDEC-8D85-4F0A-A70C-D54B1979F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915837-EB61-48AB-BDFE-0391C8657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2FA96-6DD3-4693-8758-01041C597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B426EC-8DA1-42CC-B177-0C0B56A6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E38253-62D8-4B6A-A227-1AF555760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556665-2F70-4CCE-8540-9DC84C6A4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D3F9EB-6897-4C41-AA12-0F241D72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B4CD0-E6B3-4A2E-9837-6C2F56E3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F55765-D0BD-41E5-816D-0F20E22F2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822813-A6E0-4D31-A51B-ABEA81FBA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84E544-CF2D-4C7F-A7BE-3E0864535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B5B32-85D7-423C-B9DF-A91243919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D21CC3-E2AC-4B9E-975C-B891FEBEE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8356-5BC3-494E-963C-E71745F75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424EE9-E8B7-47D5-9637-01A40A12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532EF2-D67C-4513-8AC8-719038E5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B1E334-53C9-460E-AD22-C6DD7A16C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B4D02D-0782-49C3-8376-29EDC837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CED6A6-2A7A-473F-B930-1C689B867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BCDB8-FCD1-40C3-AEFC-C62524FF7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DFC1F-2D6C-4A3D-9F1C-F6D77B51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C07631-7B78-4A35-A4BB-98E0FB7BF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CC114E-8A5B-4A48-B13C-1DCA5AD8A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B1A3A4-EAB6-4D62-B960-B730576E5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C2E6D-BE1F-4E88-A84F-6AE0E297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70C11-325B-4718-A1C2-D8C568D1C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931268-0F51-4E3C-8795-002F6ADB2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0FF0DB9-4849-40AC-9203-04C5A809C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4FCA6D-9F46-47D4-AD06-68F89A40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4CF54-EFC2-4CCD-B1C2-62972F2B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DB0591-33C5-4BCB-BFBF-FAD9B15A2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423458-5F54-48F4-8FD4-3B7272FB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72D6F5-7CF9-4909-A951-46CDEFC8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0D8E89-FAB4-45D1-A33D-6A0410D76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A1D782-5C98-43A3-A6F1-38017FB1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0A670-0862-41E5-A14E-8051A71B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4EBB9DA-B607-4049-BFBC-AD1A8F2CA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9771268-5485-4879-92DD-0D7B1785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2ADA02-CDD3-40D8-ABA7-1EE0730D2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221E6C-D336-4A4A-9AFA-2EBA7C29DC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9F1BA6-7CDA-428A-95C5-2B565F46B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ED9CA-91EC-43F2-9B89-A43690AC0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1C775B8-01D4-49FA-9E7D-D97D37AC0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BBBA3-C2AB-4955-AC1E-DDAC6D25E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7A0C17-A14A-4CC7-8FA2-DC0B4D43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0B70BF-2304-4E4A-A50F-93B8D3F66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45F1-1955-4DF5-AEA1-55A20D9B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BC08C-F4F4-4148-B574-E9CDD739F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D57B4E-FC66-421A-A66B-7661F5E4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2681D-E52E-49F4-BB0E-3151566C7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7F2DC-0045-4B0C-916A-F3BFF68F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7D85138-268B-4C5C-93B8-E40437FE6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56DD91-89FD-4714-BBD2-7E37F5F1F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0EA2BB-CECC-41B0-B39B-7712B9AC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4AFE6B-723E-4E9F-BEC4-78D38B485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178956-4393-4585-9CA6-FE32CBF48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2C8F75-D72F-4A6E-A54C-C16A1A884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8D4D7-0626-4781-A163-46F03E532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1E4E6-EF27-4DBD-8551-CA5609D7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696903-6963-4675-97FC-A27F98166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902259-2A66-4B5F-9A88-E2DEE963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C4BB5EB-7470-466F-B358-74C37E52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AAF2A6-B9ED-42D1-A3E6-9D15073C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5B4BC5-D98D-4423-9E1F-A4742FCBF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4342AF-FAC5-467F-8E15-518169987F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95D050-00AA-428D-99EB-C674F2CAC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FDD3DD-2D34-4129-844E-FB153DA78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0A8DBA-CEA0-4E4E-A07D-1E629466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A691C6-E600-4C01-8E4D-B8D12B04E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872F3-8105-44E0-91DD-19EE4C88F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058B00-F479-4088-9B3D-5FD12AC33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B81E9C-C74B-40FF-8A7A-28941B055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2C89AA-929B-4B85-AC4B-2D9942BFC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41745-59DF-4713-9BEC-11DB6C43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5F662-8B4F-4135-A6B1-49B59495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558E267-0243-4BB9-B774-5B86B94B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C35A05-E879-4BB8-81BD-968D3CFD3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66336D-4081-4CF4-8024-0A46AC0DE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43350-76DD-4DC2-A596-53F620A2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A3606D-082F-435C-BF7D-F1E55D17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A3941-6485-4139-9B68-FD4D13BDF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C10FA1-FA7D-49CE-88FC-10D942826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929C10-6325-4496-9EC5-236DF4076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78AF06-2E5B-4BEC-9F70-543F2AAA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B912E4-C364-4EBD-956C-865C7393E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9EDF6-B784-4343-A360-E9D11775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24C57E-6F17-4D50-B9A5-3825F9C0C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D1EC835-6082-4896-B385-EF525160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1FAFAC-2FFE-4233-9E44-62BC699BB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24940B-EF4B-4D05-8682-3F3BD1A28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D658C3-AB0B-4703-9858-CFD798063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80B3-4C54-44A1-B518-E4F622F9A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F1847D-FB6D-417F-BA49-D2F195F6B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958945-6719-4F7B-85E8-674E2703D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E8A22B3-74EC-42A2-BF58-351A8BC4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2ACD4F7-92D6-4D1E-A89F-D025D7A18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F1DFEA-F00E-4A48-B2BB-A8836B4D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E0EAC9-161D-4CF2-8BC1-17EE4E42C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26770F4-7BAC-44CF-9448-B5A8FBA87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DCD835-B764-4E9B-9E78-10F358B2B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974B2A1-ECD4-4B1D-A7D3-62394A043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D75D08-034F-4E67-83B0-30D21B9AC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460BB-300A-496C-92B2-3E0B420C5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B138DD-086F-4C4E-87CC-E66FD0A64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C3C85D-8BDF-4F24-807D-1C3C060DD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784F4A6-531A-4395-836C-0CBC8B92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D5C03-8328-459D-92BD-8BE41161F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8A5756-6034-48F3-8679-132B32567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91831-790F-4C22-923B-E455A6467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B0002-D74D-4354-9768-6C0255A97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E0E-1DC7-4FD0-9D76-BB879A4B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05408D-A49F-4711-A48C-53C9BF12B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E93FAD-B89A-41E7-8B80-6541B839C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4D7D2-1BD7-46BC-BA60-ECE32E021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C57B6-85D2-40E8-ADEA-68D73646B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43BAB2-D19D-43DB-87C4-1CF29E8B8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E424B-B6F3-4703-B4C2-906DC5AAB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DD217-5F9E-4D8A-B8F9-932A688F6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88FF36-C308-4A65-802E-86B9C7004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5E012-ABD0-4678-9EA4-794BC015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B8E4D5-327C-43A9-97A0-F25A6913F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FC0A-1BB5-4819-A55F-D687EE72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04C43-4C06-4F5E-82DD-820D20A5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C1B190-ADC0-4BC4-B41A-73BCAF2C2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1E79D-482A-4E67-968A-0201D10D2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08F39C-D82C-46CB-B049-0A6A965BE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FAB25A-7231-4D37-8644-4EBDB5A6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59E970-2379-43FA-9DF5-59BB906C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4C36EB-ECEA-41D1-903D-5BEEE39DF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A30EEE-E6A9-4AA7-BA10-AA6EA4BC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440E56-0FF0-458A-AF03-DA9B690DC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EF4A1-D153-4913-AC1A-AA2A2AD6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2F0D-0E32-465C-954B-7F8E0A80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4AE1FE-CE83-4F1F-A988-79FBCC5C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9999B4-E251-4277-B380-8E6093572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CE1B96-11C8-4212-8495-DC1234CA2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D88E87-D3E3-40E3-B13B-6FEA2F75F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3A1AE-8051-4430-8CF0-F1EF410E1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39A989-6450-4184-A6D9-17E8DD846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38CF59-D950-4D71-B5C6-ACA42AC4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84AB6E-AD47-45C5-817B-970594690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F2D2E-85CF-4B5A-AAED-A4CDF5862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1DCFB4-DDA8-4B5A-A515-4F0461363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B66F-4350-47EB-A8D5-321B53C6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76BC10-E356-401B-B81E-099086E17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126D40-FD1E-4E5F-AA4D-55A49B144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E2DCB8-C488-425A-B53F-6D9233CBF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75C9AB-CF96-45D3-BA64-153AB994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16743F-8834-4060-BDCD-40B01930C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664BC-1A20-4F61-82E6-E019064C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327550-87E0-4747-B7EA-EDB60F56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EB35B-CAB0-49B8-A7D8-7EA75E300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7A2E4-C27D-419F-8EFB-DA30B872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73015C-9FBE-4CB5-BDDE-0A82C09F4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095D-EC18-4921-9EB0-72F94FEA9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C837FD-CDB3-463D-B0F0-DC1BBCE8F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E0F40-FFFB-4FB5-BFDF-A15294BE5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B8A4B-ABFC-4D79-A982-21D291198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E74F7-3510-4C6C-89CA-D5638970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A1763B-BF0D-4C6C-B215-7C7A988C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39408E-C219-47FC-B4EA-A2E45EC00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ECA200-47F2-4CD8-A962-67B64068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D6348-3441-4AB8-B3D8-81C173EAC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56443-18B8-472D-8730-090B12BDA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E2ACBD-6416-4B40-94C2-AD5A1BA6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0754-D565-46FB-928C-2720AD19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CA8AD-0684-4D63-96D0-109014EB7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14CE8F-3D2B-4595-8D0D-AAED6BB87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97F99-279A-4D15-9C64-1C2C91BFF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487894-C4C7-42A5-B43F-929D8F87D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AC07C-E3EF-4FCD-AF7D-566AC578D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1B45C0-46C0-4AFA-BAE5-4DD9E6248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84C39A-EC1F-4131-B54F-6A7F2489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053623-CA68-4946-ADDA-61EB59952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BEE35-7E31-4032-B5B0-F753162D6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2EB778-B2A3-4D36-A409-53A945626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6B8C-A702-4805-AACE-CADEC27E9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9A4667-23C9-433B-ABA7-A1C2F8578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5578B-3785-483E-BCE1-A52A0FED6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10A45-E768-4E40-956A-941DB7852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A33A2B-88C1-45FD-BD37-F6F0224E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E789C-F043-4F72-B6D2-581F826A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98C83-9457-46C4-9266-1D7744B7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DAACD-E227-4EF9-B2D6-0B2EB9512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5684F-C759-44D6-BF9E-29D4AB35B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CDE217-D306-4E1B-80CB-DFB5BE63B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7B914-6E31-46F8-B6DF-D5AF6551E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6802-7A11-4D61-9871-B659226542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73EE-1A81-4899-8024-60DB1B94B4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81BF5-A604-4E89-87EF-FB55D14EE77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88A9F-E903-4983-AD87-8AC3CC4709F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8051-DBE5-4CB1-86D3-1F46C7F6B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76D37-D19E-4202-9F7B-C5C340B166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886E-2AAF-42F5-BA03-3C50471129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11E9E-DDFC-4E54-B481-8857F0005E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D7BBA-7555-4010-93DA-14CEB4514C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7FEA-002C-4249-B778-72129642E2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CB0C9-84CA-4A70-A5E1-E9CAEFC10A0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C89EC-4025-414F-856E-7828B5913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3A89E-24C6-43B6-A5A2-20C7449DEB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B6FE-273D-4924-A4AB-5EB4B080BD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28E3-25AE-4F1E-A199-5E3B384061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6D7E-0C90-41DF-A614-5F29D14B3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1614-70F8-400F-8316-157D432381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50B5-EBBA-4597-9686-68787A7AD1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0AFA6-2790-415A-B320-18106DEE22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62C7-F434-4219-B7C8-40A8A382B7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F94A2-F0C4-4C2E-9E01-DE7166900B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3CB5B-FB72-4BBF-A9C5-EB13A6A95D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31DA-5112-433C-BB76-8846E0FFF19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714F-2699-490D-90A8-216E1671D56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06B0-C527-46AA-BFEF-3C67A9CBED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C763-D79D-443C-BB42-9AC46CAF0B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967A8-D85C-4653-9BBB-38D437FB4C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6C01E-61F5-4FA0-94A0-621BA580B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EB9AC-7C3A-425A-87BD-6A0B5DBEBF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A8B25-7343-4936-A728-6BC95DB47DA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9CA9-BC01-4BA3-9CB7-A35C7C58482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EECC-1AB5-41C1-87F3-B69E97CA1D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A9E45-C487-45AA-AE0B-A97620BB4B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22C9-EE22-4559-B5CE-2159D88C8C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17235-60D6-4B7F-9590-20C394B2EC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21D35-D7EE-4922-8CA6-0A17B0C2A2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E085-449A-498E-9DD9-3136EC287C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0A41-3695-4C9C-B83C-0BD5BDFE5A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2CED5-379C-40F9-A6D4-7818163A3DB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A1E0A-0C15-41E5-88BC-D4F80DD4FB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47520" y="3213000"/>
            <a:ext cx="9017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1979640" y="81000"/>
            <a:ext cx="388800" cy="304920"/>
          </a:xfrm>
          <a:prstGeom prst="rect">
            <a:avLst/>
          </a:prstGeom>
          <a:ln w="0">
            <a:noFill/>
          </a:ln>
        </p:spPr>
      </p:pic>
      <p:grpSp>
        <p:nvGrpSpPr>
          <p:cNvPr id="1028" name="组合 4101"/>
          <p:cNvGrpSpPr/>
          <p:nvPr/>
        </p:nvGrpSpPr>
        <p:grpSpPr>
          <a:xfrm>
            <a:off x="314280" y="2433600"/>
            <a:ext cx="8515440" cy="1990800"/>
            <a:chOff x="314280" y="2433600"/>
            <a:chExt cx="8515440" cy="1990800"/>
          </a:xfrm>
        </p:grpSpPr>
        <p:pic>
          <p:nvPicPr>
            <p:cNvPr id="1029" name="图片 1" descr=""/>
            <p:cNvPicPr/>
            <p:nvPr/>
          </p:nvPicPr>
          <p:blipFill>
            <a:blip r:embed="rId2"/>
            <a:stretch/>
          </p:blipFill>
          <p:spPr>
            <a:xfrm>
              <a:off x="314280" y="2433600"/>
              <a:ext cx="8515440" cy="199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0" name="Picture 1" descr=""/>
            <p:cNvPicPr/>
            <p:nvPr/>
          </p:nvPicPr>
          <p:blipFill>
            <a:blip r:embed="rId3"/>
            <a:stretch/>
          </p:blipFill>
          <p:spPr>
            <a:xfrm>
              <a:off x="1547640" y="3371760"/>
              <a:ext cx="6912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31" name="直接连接符 4102"/>
          <p:cNvSpPr/>
          <p:nvPr/>
        </p:nvSpPr>
        <p:spPr>
          <a:xfrm>
            <a:off x="1619280" y="3357720"/>
            <a:ext cx="1512720" cy="718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直接连接符 4103"/>
          <p:cNvSpPr/>
          <p:nvPr/>
        </p:nvSpPr>
        <p:spPr>
          <a:xfrm flipH="1">
            <a:off x="1692000" y="3298680"/>
            <a:ext cx="1468440" cy="77796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直接连接符 4104"/>
          <p:cNvSpPr/>
          <p:nvPr/>
        </p:nvSpPr>
        <p:spPr>
          <a:xfrm>
            <a:off x="4716360" y="3357720"/>
            <a:ext cx="187164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直接连接符 4105"/>
          <p:cNvSpPr/>
          <p:nvPr/>
        </p:nvSpPr>
        <p:spPr>
          <a:xfrm>
            <a:off x="6516720" y="3357720"/>
            <a:ext cx="1871640" cy="79200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直接连接符 4106"/>
          <p:cNvSpPr/>
          <p:nvPr/>
        </p:nvSpPr>
        <p:spPr>
          <a:xfrm flipH="1">
            <a:off x="4788000" y="3357720"/>
            <a:ext cx="3419280" cy="718920"/>
          </a:xfrm>
          <a:prstGeom prst="line">
            <a:avLst/>
          </a:prstGeom>
          <a:ln w="19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8" name="图片 1" descr=""/>
          <p:cNvPicPr/>
          <p:nvPr/>
        </p:nvPicPr>
        <p:blipFill>
          <a:blip r:embed="rId1"/>
          <a:stretch/>
        </p:blipFill>
        <p:spPr>
          <a:xfrm>
            <a:off x="138240" y="1090440"/>
            <a:ext cx="8866080" cy="467712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2"/>
          <a:stretch/>
        </p:blipFill>
        <p:spPr>
          <a:xfrm>
            <a:off x="4730760" y="3213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3"/>
          <a:stretch/>
        </p:blipFill>
        <p:spPr>
          <a:xfrm>
            <a:off x="586728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4"/>
          <a:stretch/>
        </p:blipFill>
        <p:spPr>
          <a:xfrm>
            <a:off x="7164360" y="32130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2" name="Picture 1" descr=""/>
          <p:cNvPicPr/>
          <p:nvPr/>
        </p:nvPicPr>
        <p:blipFill>
          <a:blip r:embed="rId5"/>
          <a:stretch/>
        </p:blipFill>
        <p:spPr>
          <a:xfrm>
            <a:off x="4427640" y="37306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6"/>
          <a:stretch/>
        </p:blipFill>
        <p:spPr>
          <a:xfrm>
            <a:off x="5796000" y="373068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7"/>
          <a:stretch/>
        </p:blipFill>
        <p:spPr>
          <a:xfrm>
            <a:off x="3708360" y="42498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8"/>
          <a:stretch/>
        </p:blipFill>
        <p:spPr>
          <a:xfrm>
            <a:off x="4932360" y="42354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9"/>
          <a:stretch/>
        </p:blipFill>
        <p:spPr>
          <a:xfrm>
            <a:off x="3708360" y="47386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10"/>
          <a:stretch/>
        </p:blipFill>
        <p:spPr>
          <a:xfrm>
            <a:off x="3708360" y="524340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0" name="图片 1" descr=""/>
          <p:cNvPicPr/>
          <p:nvPr/>
        </p:nvPicPr>
        <p:blipFill>
          <a:blip r:embed="rId1"/>
          <a:stretch/>
        </p:blipFill>
        <p:spPr>
          <a:xfrm>
            <a:off x="85680" y="847800"/>
            <a:ext cx="8972640" cy="3524040"/>
          </a:xfrm>
          <a:prstGeom prst="rect">
            <a:avLst/>
          </a:prstGeom>
          <a:ln w="0">
            <a:noFill/>
          </a:ln>
        </p:spPr>
      </p:pic>
      <p:pic>
        <p:nvPicPr>
          <p:cNvPr id="1051" name="图片 2" descr=""/>
          <p:cNvPicPr/>
          <p:nvPr/>
        </p:nvPicPr>
        <p:blipFill>
          <a:blip r:embed="rId2"/>
          <a:stretch/>
        </p:blipFill>
        <p:spPr>
          <a:xfrm>
            <a:off x="1309680" y="4816440"/>
            <a:ext cx="6524640" cy="172404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3"/>
          <a:stretch/>
        </p:blipFill>
        <p:spPr>
          <a:xfrm>
            <a:off x="1057320" y="13986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4"/>
          <a:stretch/>
        </p:blipFill>
        <p:spPr>
          <a:xfrm>
            <a:off x="1042920" y="191628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5"/>
          <a:stretch/>
        </p:blipFill>
        <p:spPr>
          <a:xfrm>
            <a:off x="1071720" y="24210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6"/>
          <a:stretch/>
        </p:blipFill>
        <p:spPr>
          <a:xfrm>
            <a:off x="1116000" y="342900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58" name="图片 1" descr=""/>
          <p:cNvPicPr/>
          <p:nvPr/>
        </p:nvPicPr>
        <p:blipFill>
          <a:blip r:embed="rId1"/>
          <a:stretch/>
        </p:blipFill>
        <p:spPr>
          <a:xfrm>
            <a:off x="1262160" y="2562120"/>
            <a:ext cx="6619680" cy="17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61" name="图片 1" descr=""/>
          <p:cNvPicPr/>
          <p:nvPr/>
        </p:nvPicPr>
        <p:blipFill>
          <a:blip r:embed="rId1"/>
          <a:stretch/>
        </p:blipFill>
        <p:spPr>
          <a:xfrm>
            <a:off x="147600" y="1838160"/>
            <a:ext cx="8847000" cy="3181680"/>
          </a:xfrm>
          <a:prstGeom prst="rect">
            <a:avLst/>
          </a:prstGeom>
          <a:ln w="0">
            <a:noFill/>
          </a:ln>
        </p:spPr>
      </p:pic>
      <p:grpSp>
        <p:nvGrpSpPr>
          <p:cNvPr id="1062" name="组合 8197"/>
          <p:cNvGrpSpPr/>
          <p:nvPr/>
        </p:nvGrpSpPr>
        <p:grpSpPr>
          <a:xfrm>
            <a:off x="704880" y="2387520"/>
            <a:ext cx="4537080" cy="2770200"/>
            <a:chOff x="704880" y="2387520"/>
            <a:chExt cx="4537080" cy="2770200"/>
          </a:xfrm>
        </p:grpSpPr>
        <p:pic>
          <p:nvPicPr>
            <p:cNvPr id="1063" name="图片 8195" descr=""/>
            <p:cNvPicPr/>
            <p:nvPr/>
          </p:nvPicPr>
          <p:blipFill>
            <a:blip r:embed="rId2"/>
            <a:stretch/>
          </p:blipFill>
          <p:spPr>
            <a:xfrm>
              <a:off x="1281240" y="2387520"/>
              <a:ext cx="3960720" cy="277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4" name="图片 8196" descr=""/>
            <p:cNvPicPr/>
            <p:nvPr/>
          </p:nvPicPr>
          <p:blipFill>
            <a:blip r:embed="rId3"/>
            <a:stretch/>
          </p:blipFill>
          <p:spPr>
            <a:xfrm>
              <a:off x="704880" y="2862000"/>
              <a:ext cx="792000" cy="851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2:27:23Z</dcterms:modified>
  <cp:revision>38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